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044-3D73-408E-8D46-CDD16464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0EF-9816-4A05-97D2-9B96848D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5B4-C63F-4220-869F-67E5097E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D9F-D5E1-4D2B-B257-9B818835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A4D-EBCD-4D1C-AD9C-69C5EA6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029-9506-46A2-8E3E-CCFBD99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610-C19D-4979-B9AA-84E9A58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CC5-EB22-4554-A916-AFA7F32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D22-93BF-4139-8B9C-FF5EB4B0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1D3-E94E-4EC5-815E-D5A98D0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D56-EDF5-4F1A-94B4-294ED6F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834-7E7B-44F8-AA72-2DD4920A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1CB-76FC-4813-8BB6-9366A134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 to 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heet of notebook paper write the date and title of this assignment. Copy the question and then compose a short (but complete) response to both of the statement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 in the blank: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“Science is ___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 How would you determine whether something is living or non-li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’s Li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st characteristics that you believe all living things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 an example for each item on th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go back over your list and determine if any nonliving objects might have the same characteristic.  List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23:21:49Z</dcterms:created>
  <dc:creator>Sussex County Public Schools</dc:creator>
  <dc:description/>
  <dc:language>en-US</dc:language>
  <cp:lastModifiedBy>lellis</cp:lastModifiedBy>
  <dcterms:modified xsi:type="dcterms:W3CDTF">2010-09-07T03:39:38Z</dcterms:modified>
  <cp:revision>12</cp:revision>
  <dc:subject/>
  <dc:title>Biology WarmUp One (9/6/05)</dc:title>
</cp:coreProperties>
</file>